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3BE-B5FD-43E8-BC34-599D2C1B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569-0A19-49C1-890D-C0A5D269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A27F-FB9F-491C-B372-85499853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09BA9-6617-4494-837E-A6DA88B2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939A-B178-421C-9380-104C9752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0EFA9-4D7D-4072-A4BD-1392B71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5559E-402C-4E15-9E0C-C0C70D8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0F99E-CD9B-4940-BF94-8C1F991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12E24-FD19-4CA7-B4ED-1BBB846F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1CAA-FDD0-44C6-98FA-B9DAB6CC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2CDB-91EA-4A62-8AD8-7B8D951F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94939-DCC8-4F8B-809D-36A81980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BC5-A4F0-4133-8040-539B0E03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F1B08-A315-4B1F-AD92-3D644380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98087-8D8C-46BE-A55F-EDC83868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539E-E1A9-4191-8B60-13FDEDFA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A15A3-4423-4B6F-B0B6-5FCBB63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1C1E7-7FE8-440F-ACAA-B8578B38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A907-BB93-46BB-9D02-FBA7CE1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3C21F-37A3-49AD-A0AC-CAAE81EC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59123-36F1-4106-B1E6-A11153C9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0B549-029A-4EA9-B4D8-F0EE7AD7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99294-2D54-4690-96B6-D097E905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B46-BFCC-4A08-9829-8C767622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40894-E135-4200-87B4-D222B9F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201E-A039-4C38-8DDC-9086B131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EEF80-6036-4394-815E-AE352A6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80116-70D2-488F-BD0E-67E7971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0CEFB-8996-48AA-89BD-540445D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DAF94-76AF-4D74-92BC-D30B6D7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43257-A1A9-41D0-B287-0E56C2C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BCE9A-D73F-4557-B323-5B966E3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4DDC5-C73A-460B-A528-19A1B9C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7A02-D11C-4132-8DEB-B66328D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9925-2C0E-4AC0-86E2-806E5577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136D8-4E73-4F03-8AFD-D085748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14DE9-CB40-433B-9926-5A80A70D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0A376-E2C7-418B-8A20-F67963AD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7D9E-98A8-419A-B081-714626C0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F2085-916F-4B87-95F6-2F6D002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A1D8C-C4B1-49B0-840F-8647924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402C4-480E-42B4-A06E-99A3ADC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D41E4-02AB-4101-AD20-7389B8F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33286-11AC-4192-AAF1-97CCACBA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9ECD3-1055-4BA2-8BAC-152DCA50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B2B7-D686-4151-A6A1-8EAB1859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2074A-738B-4A41-9F1A-04F1CD2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FD68-488D-4AC3-9012-5D70429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F1B38-FED1-4C15-B03E-3C27C09A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73E5F-649C-453A-AECB-ED8C172E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D1503-811C-473D-B4E8-05106D9C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3A648-B3EC-4DCE-A49B-6E725BF8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F23C7-4C3D-4D29-B3C4-E4FEBDF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A8F4B-EB6C-4ABD-AA4B-E20D755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B6EF4-DDE7-4A62-8F05-5993B7F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92C46-0E3E-4389-AE80-2F19BA5E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32B-CA9F-4B3B-B45C-6BD75FE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2EC07-6302-4EBB-B1EE-6B9A21AF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FFC23-3F77-4D5F-9304-35204FB5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40707-9F2B-49AB-8E9C-428A8AD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EFB7C-3326-4D72-9BED-D181573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8B5FE-5A92-4A9A-81E2-F2AB7D6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156F5-CDCB-41A5-80E1-97C69087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5E4F2-9953-4BF6-B71B-1C46FC54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9B33B-9B63-46ED-BFCB-F9FFBD9E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367EB-E33F-48BB-A765-5159DB5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B2D78-6488-4F09-A907-F7BF1E3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2DE1-1170-46AD-9BA7-7720224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1144F-BFB3-419D-A4CE-4A56BEF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7CE73-722E-406A-AF44-A938233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6BEC7-8B7A-4DAD-BF06-D0430828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4333B-1C9D-4184-A0BB-8F5B7A2C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D4931-9DD7-4A87-9909-2FAC366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22BDE-6498-4130-80B1-89A54E3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8932C-6D45-435C-BCCD-BF3855C6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EFCF4-1FE9-4B04-86B8-DCDED65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24392-7F88-4BE4-BD21-E9B71B60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F021C-1E9C-4C7C-947F-FEF7FCAB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2556-57D7-44EB-BB99-3EAC243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F2C82-20CD-497A-98BA-59417BE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31D447-B4F0-4C3C-A8DE-EBE9330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A83A4-EC53-40CB-B8F0-FD82CBC8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623C7-7F2D-4ECB-BBC6-A4110D62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A37B6-B62F-4C8B-9519-CBF1CA24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FF6F6-0AE3-404B-87B5-F72706E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3FD46-6984-42F1-9B29-0F132B4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17AC0-B695-4183-A23C-218390D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1F55E-851A-4788-8A1A-F88FCC76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A00EF-EA2B-46DC-B085-C6E2F6BC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E0A5-4269-46C4-8BF5-A315B7A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3685C-60F0-48B1-AD02-A2422E4B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FBA46-4E82-4C4D-857A-77E75E57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737AC-B034-41B9-B8E7-0E7124C5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9B0AA-9C5B-463D-B608-17732FC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EAA07-5E00-4FC6-848F-A2E34E2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ED660-DCD2-406D-8717-84C1D28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DB5C8-D491-4D65-922B-2F9E5299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B0B30-3D31-4D61-82BF-1F2F87B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96979-69CD-481E-8355-CA11FAC3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292DF-A9A8-466D-9DAC-A782393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BED-358B-4D94-A98D-E281BAC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6A5BD-E283-41B2-81A1-FB5CD9E6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FCA96-80E8-4B5F-99EE-56D514E8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E4083-8AB6-478B-B66F-A87E6847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49805-B817-4FBA-8279-8130694D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0B210-483C-4815-9369-BF2CC564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502C1-1FA8-439C-AC0B-20F822B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09F85-72CF-4BC5-9187-3AC79AD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98EA7-8703-45DC-BCAF-8A93DFB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6F880-3822-4A8A-BC44-40A973D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94C9A-6A84-4029-BC8D-57727326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874-AE77-41F0-85C9-E788C74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91A1-1ED7-48DC-9878-8E0D2BE3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80C40-3A3F-4941-9691-BD3EF98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4B07E-37F8-4FFD-B72D-B30A501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5A451-4D1B-4858-A804-02260C0A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FC949-CF82-48A4-9272-3012E388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4A1B5-3019-41A3-9E43-137474B3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F51C9-715F-4D3E-819A-8E7C7764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EC6C5-8A98-426A-B1DA-A3CE7E9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51D91B-8B7E-4285-A8A2-3867B1D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C3B67-A8D0-4E1F-A750-7FA2231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C8DFF-5765-4BB9-84BF-E81DCE6B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79FF-4757-48FF-9938-E1CDD81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F0067-346B-4A03-9F05-201A65F8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2628AA-AABB-4343-A2FF-6FD9719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27870-CF4F-40A7-B1F4-3887418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5B7F5-8E2B-47ED-A632-6F0FBE5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18A7B-887D-45B1-B818-FBF2C4D1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59A9F-A5CA-4418-9A53-26337787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83470-EA9D-4209-8CE8-5B9B69C6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BDD9C-9DCB-48B9-9EBC-5656907D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A0998-97CE-40AB-BB0D-C71F9FEC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1EB26-1719-48C1-88DF-D7C319D0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7A9-B3F9-4583-AB2C-3EF8142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30099-7F51-4FA7-81DE-C44BE5B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79EE5-EACF-41DD-98FF-6D312F43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20F32-7212-4FFB-985B-CCC9F85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C7011-3AB6-40BC-985C-E4B501B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F417C-5B6F-4131-B658-A6C81D9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A9801-DD58-41F4-8445-64ADFA2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CC785-168D-47BF-BA8E-5F07AB3F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2C411-251E-4DF7-BE5F-867AC87E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BBC12-44CD-4368-9370-71D2AF39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367D4-257B-4430-B82D-DE3C356C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11D-A26E-4E4F-8060-1633649B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AF2D5-1E6D-4844-B648-00BC6A3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BFB73-A99A-4773-9B73-C92DF22B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E7B86-70AA-4D12-9EA2-FE90D636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27D0B7-64CC-442D-A26A-8E2FE07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D0F96-A674-4BD1-80A2-F92168D4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9A396-68AA-49EC-B115-686EB96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AD4FC-C54E-4AD8-8AD3-75FE86F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1DBFC-47FE-414A-B61B-B0CE61D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75AF6-A88F-4197-A2FA-B5A3DD27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2ADC1-7101-4BDD-885D-11766DAC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ACB-8594-4EEB-9D44-EB79FD1A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B9C70-818A-436A-9B86-D381FF55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0737C-0657-4D84-A273-8FF9B9BD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8E389-2E5B-4C9E-B901-504271D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429CA-1190-4369-85C4-90B854F3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B2156-FCD5-4EFC-92D4-2D467CC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D5B7A-603C-4059-89A4-A2BA4DF2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0E61DB-6739-4F69-A17F-5EF285C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E0B67-0951-41DF-B187-32309F50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13E82-BA25-4006-9106-31BCB13A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CC7E3C-30C7-497B-9D3E-6B581FD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253F-0278-4BC1-80E1-FC446802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937991-40C3-4BE2-A329-BA39124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68BF2-0B98-49FD-AB8E-847B6B91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F658C-70C3-4878-95A7-70A239E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7C25-2357-4DCE-AC6B-AAB73C3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3641-64A3-4CC5-A7F4-6D2EEC20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E4F9-FD19-4535-B3E2-DB65062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91EC-6044-4193-848A-0131EFF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BA9-752D-4C9E-B3E0-DC575622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FC2B-0958-406B-8D1A-48343EEB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06EF-41DF-43B6-AD2F-B7F8487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3436-FC98-4D94-87BC-241DE8B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9567-2F2E-4DD0-8706-0AF98484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7C51-B489-4448-844B-18091C2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83B1-3819-4533-AAEE-BAEB92E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1AAB-16DD-4AB9-A228-CD6D485E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A9D4-4EB7-45CB-B0BC-FF0E9471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0545-B196-4330-A94A-A4A4D23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2A07-FAD9-4D8C-8F2E-1BCD541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61E-43CF-46F5-A40A-1D0AB3C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89F9-3681-4FCE-B112-68C7C6A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BC9C-1F8C-4E7C-A722-8EC5FA0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2B10-78E4-4F51-9C52-CE49298B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38EB-43D4-4D46-8967-34CB0B8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0787-89F3-44D7-B684-FF4C9B1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C1B5-3717-485D-A206-85E872C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1D2B-452E-44F3-BB35-BB383E0A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CDDE-FE1B-48EF-A926-AC5D6ACF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51CD-2F44-461A-97B4-F9825A8E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540D-DE2B-493A-BD28-EC71914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A1A-6FAD-4964-B2EB-F84C1E41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2C52-AA9C-4EF9-B6D5-CD78717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E5D6-6969-4872-9476-F7C9225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8309C-5404-455A-9ACB-E0D77A75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705D-B47E-42DB-9EC9-AAFBED09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03F7-DD1A-46CC-9740-F13D3C69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EFC4-E99E-4817-BE77-38BD962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C1C1-52B8-491F-81DC-0D9751C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ABAC-9FA8-42B0-AF73-89E0804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FA3B-C287-4417-9667-18A0DDEB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1BE5-6642-42D0-845C-32912830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ED8-4EC5-4210-B529-D98A6D1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4415-9B67-41AE-88F7-EC8A77AD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3B0B-090C-42C3-B238-84B9A08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6126-60BB-4032-A558-CE75D9A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321D-68D5-4834-8762-D3F48469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A9EA-6881-4B94-994F-734C37E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AB39-1098-4D54-9CC5-9DAC37F8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695D-DD42-404E-82E2-DF1DC549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7E85-DCCE-42D3-94AF-8A414F1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A412-CEA4-485F-8F23-C1E6E292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7CA75-BDD8-476D-96B9-E2DD879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B15-C5A5-4AA0-8979-3BBED9C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697D-4873-471C-A491-F5E2FF0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634A-6715-4BA3-A5DF-40FEA8D1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5598-115E-45FD-BE8D-C8937489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94AD-4091-48BB-A83E-28C6739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FD930-C521-4101-9B0E-CF23421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DABA1-9182-4E70-A1CB-8E7B1FC5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E95F-3408-4C03-96AA-33FC6B16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0080-107F-4769-9E48-AD85ADA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5AFB-4799-4687-885F-7F3B4586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7D5D5-88F5-4E27-8C4A-F2E2C14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D40-CB45-40B7-B60F-886A93B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13E3-2A91-4D4B-89CE-31AF775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3ED81-6CEC-45BF-A188-4601066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3ACA-7699-4EF5-B036-428A3558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D307-4F39-49C8-86CF-2530F3B1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97CBD-E10A-43C0-A4F0-CF3DF842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9CE6-ECB5-48EC-8EAA-7D5D7A36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C87E3-DC11-46C6-AEE5-7F593A0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C42E-BD18-41F3-A6B3-EAB02703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EE4B-6D49-4E3B-B433-93535FC2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FEA8-5BF8-495C-9149-6EACE5CA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4E6-6816-47AB-A5B7-B5597D1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71F6-3CF4-4B10-BCBC-A3AFE535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B477-584C-4B33-9A1B-FE2A53B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86D3-8E6E-4402-B817-2930AEB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3B9C-AC0B-4127-8656-47097B8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FCF59-51A4-4E3D-BE98-E0F89205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22D5-31A2-4AF4-BE1D-3C2874D5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168E-8F3D-4DF5-884A-1A284E1F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14B20-2CEC-4680-BAB0-CD1585A7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A980B-EA43-4010-8B0E-C2297036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05973-572D-4309-8E4E-601AD30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EA16-0846-4553-9FD9-FD514BC1E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116-E059-48CC-ADDC-BD17F89C2C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55D-1CDD-435D-AAF3-6B939D488F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061-D213-4D4E-99EB-365A9B0718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C0D-243D-48A8-8D3D-38943DE3D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A14-3E3F-4C32-9F92-B0477BDFF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0EA-833D-4570-85DB-D66F82E9B0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97A2-47A3-448F-8994-C0F40A2B6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CE6-C473-44CC-8653-167FC9A6D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E57-1C70-4308-BEC6-5984DDDE2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5FEA-B911-4DB1-9176-60D96E678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9D2E-0CAA-4077-A923-F91B51E0A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A97B-EDFE-47D8-A6CD-459DB68F7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4409-ADB9-4F5F-A0D1-36920A2FE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3640-B3A5-4D44-8256-E58EA34FF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1A1C-6025-48DA-89E9-6A11C8824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CDF8-4B01-4785-AA11-F50DBA749A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83AA-A8BC-4872-B4CF-9194EB60F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F15-17A7-4D28-A42F-F746A7032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B1F-CDB1-4213-99F4-CC99CCE34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15A-AC01-450E-BDE6-C0CEC46955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8D7-59D6-4283-9A5E-5F490BD35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F75-119A-42BB-83F3-0984916D1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0419-3D0E-4982-8866-1F4C4D40A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E95-1F7D-4876-9A3C-BE2936FBEF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472-A238-461B-BDC6-A9250C822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F27E-995E-49DB-88B0-C8B341E853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CA5-2692-4B1F-A276-FDF27B4F2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F81B-DFCE-47DF-86FE-6C6509240B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A61C-DF77-4C0B-B871-AB0B204FE7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BA1D-5B90-43D8-8D67-AADFE3B96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0848-1EE7-49EE-A1D5-3E280099B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816-C8A5-4248-B119-7D74E3FF0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5630-7C53-4E74-B433-D36D8F8E99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2A0-AED0-4906-8D15-C268D41D86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834A-990D-4F5E-AE6D-B2790AFB7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0F62-A945-4FAF-BBE8-0A4FDFAA5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1AD-BF24-44E5-ACEB-76466EF481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CD3B-0B9C-47CD-A75F-30F480176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5AB1-4F8F-4E40-82C7-4D55B7D65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80" y="2562120"/>
            <a:ext cx="91058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1319040" y="1309680"/>
            <a:ext cx="6505920" cy="423864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0" descr=""/>
          <p:cNvPicPr/>
          <p:nvPr/>
        </p:nvPicPr>
        <p:blipFill>
          <a:blip r:embed="rId2"/>
          <a:stretch/>
        </p:blipFill>
        <p:spPr>
          <a:xfrm>
            <a:off x="1944720" y="2217600"/>
            <a:ext cx="485640" cy="351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1" descr=""/>
          <p:cNvPicPr/>
          <p:nvPr/>
        </p:nvPicPr>
        <p:blipFill>
          <a:blip r:embed="rId3"/>
          <a:stretch/>
        </p:blipFill>
        <p:spPr>
          <a:xfrm>
            <a:off x="1944720" y="351000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2" descr=""/>
          <p:cNvPicPr/>
          <p:nvPr/>
        </p:nvPicPr>
        <p:blipFill>
          <a:blip r:embed="rId4"/>
          <a:stretch/>
        </p:blipFill>
        <p:spPr>
          <a:xfrm>
            <a:off x="1944720" y="4791240"/>
            <a:ext cx="4856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1" name="图片 1" descr=""/>
          <p:cNvPicPr/>
          <p:nvPr/>
        </p:nvPicPr>
        <p:blipFill>
          <a:blip r:embed="rId1"/>
          <a:stretch/>
        </p:blipFill>
        <p:spPr>
          <a:xfrm>
            <a:off x="1938240" y="2162160"/>
            <a:ext cx="5267520" cy="253368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10" descr=""/>
          <p:cNvPicPr/>
          <p:nvPr/>
        </p:nvPicPr>
        <p:blipFill>
          <a:blip r:embed="rId2"/>
          <a:stretch/>
        </p:blipFill>
        <p:spPr>
          <a:xfrm>
            <a:off x="2200320" y="2647800"/>
            <a:ext cx="485640" cy="35244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1" descr=""/>
          <p:cNvPicPr/>
          <p:nvPr/>
        </p:nvPicPr>
        <p:blipFill>
          <a:blip r:embed="rId3"/>
          <a:stretch/>
        </p:blipFill>
        <p:spPr>
          <a:xfrm>
            <a:off x="2200320" y="4011480"/>
            <a:ext cx="48564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2080" y="1166760"/>
            <a:ext cx="8618400" cy="452448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10" descr=""/>
          <p:cNvPicPr/>
          <p:nvPr/>
        </p:nvPicPr>
        <p:blipFill>
          <a:blip r:embed="rId2"/>
          <a:stretch/>
        </p:blipFill>
        <p:spPr>
          <a:xfrm>
            <a:off x="3370320" y="3735360"/>
            <a:ext cx="485640" cy="2430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1" descr=""/>
          <p:cNvPicPr/>
          <p:nvPr/>
        </p:nvPicPr>
        <p:blipFill>
          <a:blip r:embed="rId3"/>
          <a:stretch/>
        </p:blipFill>
        <p:spPr>
          <a:xfrm>
            <a:off x="5546880" y="3735360"/>
            <a:ext cx="485640" cy="2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" descr=""/>
          <p:cNvPicPr/>
          <p:nvPr/>
        </p:nvPicPr>
        <p:blipFill>
          <a:blip r:embed="rId1"/>
          <a:stretch/>
        </p:blipFill>
        <p:spPr>
          <a:xfrm>
            <a:off x="357120" y="1252440"/>
            <a:ext cx="8427960" cy="435312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10" descr=""/>
          <p:cNvPicPr/>
          <p:nvPr/>
        </p:nvPicPr>
        <p:blipFill>
          <a:blip r:embed="rId2"/>
          <a:stretch/>
        </p:blipFill>
        <p:spPr>
          <a:xfrm>
            <a:off x="1060560" y="1387440"/>
            <a:ext cx="485640" cy="25704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1" descr=""/>
          <p:cNvPicPr/>
          <p:nvPr/>
        </p:nvPicPr>
        <p:blipFill>
          <a:blip r:embed="rId3"/>
          <a:stretch/>
        </p:blipFill>
        <p:spPr>
          <a:xfrm>
            <a:off x="7769160" y="1387440"/>
            <a:ext cx="486000" cy="25704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2" descr=""/>
          <p:cNvPicPr/>
          <p:nvPr/>
        </p:nvPicPr>
        <p:blipFill>
          <a:blip r:embed="rId4"/>
          <a:stretch/>
        </p:blipFill>
        <p:spPr>
          <a:xfrm>
            <a:off x="4086360" y="3692520"/>
            <a:ext cx="485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6313320" y="365040"/>
            <a:ext cx="38916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3"/>
          <a:stretch/>
        </p:blipFill>
        <p:spPr>
          <a:xfrm>
            <a:off x="3265560" y="1562040"/>
            <a:ext cx="2247840" cy="3430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" descr=""/>
          <p:cNvPicPr/>
          <p:nvPr/>
        </p:nvPicPr>
        <p:blipFill>
          <a:blip r:embed="rId4"/>
          <a:stretch/>
        </p:blipFill>
        <p:spPr>
          <a:xfrm>
            <a:off x="195120" y="2719440"/>
            <a:ext cx="8390160" cy="14191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" descr=""/>
          <p:cNvPicPr/>
          <p:nvPr/>
        </p:nvPicPr>
        <p:blipFill>
          <a:blip r:embed="rId5"/>
          <a:stretch/>
        </p:blipFill>
        <p:spPr>
          <a:xfrm>
            <a:off x="4356000" y="3716280"/>
            <a:ext cx="479520" cy="3477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3" descr=""/>
          <p:cNvPicPr/>
          <p:nvPr/>
        </p:nvPicPr>
        <p:blipFill>
          <a:blip r:embed="rId6"/>
          <a:stretch/>
        </p:blipFill>
        <p:spPr>
          <a:xfrm>
            <a:off x="7885080" y="3789360"/>
            <a:ext cx="479520" cy="3477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6070680" y="3716280"/>
            <a:ext cx="479520" cy="3477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3" descr=""/>
          <p:cNvPicPr/>
          <p:nvPr/>
        </p:nvPicPr>
        <p:blipFill>
          <a:blip r:embed="rId8"/>
          <a:stretch/>
        </p:blipFill>
        <p:spPr>
          <a:xfrm>
            <a:off x="2657520" y="3716280"/>
            <a:ext cx="479520" cy="3477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3" descr=""/>
          <p:cNvPicPr/>
          <p:nvPr/>
        </p:nvPicPr>
        <p:blipFill>
          <a:blip r:embed="rId9"/>
          <a:stretch/>
        </p:blipFill>
        <p:spPr>
          <a:xfrm>
            <a:off x="871560" y="3745080"/>
            <a:ext cx="47952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71280" y="1452600"/>
            <a:ext cx="8999640" cy="39528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3" descr=""/>
          <p:cNvPicPr/>
          <p:nvPr/>
        </p:nvPicPr>
        <p:blipFill>
          <a:blip r:embed="rId2"/>
          <a:stretch/>
        </p:blipFill>
        <p:spPr>
          <a:xfrm>
            <a:off x="676440" y="189072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" descr=""/>
          <p:cNvPicPr/>
          <p:nvPr/>
        </p:nvPicPr>
        <p:blipFill>
          <a:blip r:embed="rId3"/>
          <a:stretch/>
        </p:blipFill>
        <p:spPr>
          <a:xfrm>
            <a:off x="5127480" y="1986120"/>
            <a:ext cx="481320" cy="3474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4"/>
          <a:stretch/>
        </p:blipFill>
        <p:spPr>
          <a:xfrm>
            <a:off x="676440" y="315288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4" descr=""/>
          <p:cNvPicPr/>
          <p:nvPr/>
        </p:nvPicPr>
        <p:blipFill>
          <a:blip r:embed="rId5"/>
          <a:stretch/>
        </p:blipFill>
        <p:spPr>
          <a:xfrm>
            <a:off x="5153040" y="3152880"/>
            <a:ext cx="479520" cy="34740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5" descr=""/>
          <p:cNvPicPr/>
          <p:nvPr/>
        </p:nvPicPr>
        <p:blipFill>
          <a:blip r:embed="rId6"/>
          <a:stretch/>
        </p:blipFill>
        <p:spPr>
          <a:xfrm>
            <a:off x="676440" y="4332240"/>
            <a:ext cx="480960" cy="3477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6" descr=""/>
          <p:cNvPicPr/>
          <p:nvPr/>
        </p:nvPicPr>
        <p:blipFill>
          <a:blip r:embed="rId7"/>
          <a:stretch/>
        </p:blipFill>
        <p:spPr>
          <a:xfrm>
            <a:off x="5153040" y="4332240"/>
            <a:ext cx="4795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76120" y="1379520"/>
            <a:ext cx="8591760" cy="204804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695160" y="4227480"/>
            <a:ext cx="8172720" cy="164772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3" descr=""/>
          <p:cNvPicPr/>
          <p:nvPr/>
        </p:nvPicPr>
        <p:blipFill>
          <a:blip r:embed="rId3"/>
          <a:stretch/>
        </p:blipFill>
        <p:spPr>
          <a:xfrm>
            <a:off x="3600360" y="3079800"/>
            <a:ext cx="479520" cy="34776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1" descr=""/>
          <p:cNvPicPr/>
          <p:nvPr/>
        </p:nvPicPr>
        <p:blipFill>
          <a:blip r:embed="rId4"/>
          <a:stretch/>
        </p:blipFill>
        <p:spPr>
          <a:xfrm flipH="1">
            <a:off x="6102000" y="2960640"/>
            <a:ext cx="625320" cy="34776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" descr=""/>
          <p:cNvPicPr/>
          <p:nvPr/>
        </p:nvPicPr>
        <p:blipFill>
          <a:blip r:embed="rId5"/>
          <a:stretch/>
        </p:blipFill>
        <p:spPr>
          <a:xfrm>
            <a:off x="1771560" y="5527800"/>
            <a:ext cx="479520" cy="3474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4" descr=""/>
          <p:cNvPicPr/>
          <p:nvPr/>
        </p:nvPicPr>
        <p:blipFill>
          <a:blip r:embed="rId6"/>
          <a:stretch/>
        </p:blipFill>
        <p:spPr>
          <a:xfrm>
            <a:off x="7978680" y="5527800"/>
            <a:ext cx="48096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324000" y="1857240"/>
            <a:ext cx="8496000" cy="314352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3" descr=""/>
          <p:cNvPicPr/>
          <p:nvPr/>
        </p:nvPicPr>
        <p:blipFill>
          <a:blip r:embed="rId2"/>
          <a:stretch/>
        </p:blipFill>
        <p:spPr>
          <a:xfrm>
            <a:off x="892080" y="233532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1" descr=""/>
          <p:cNvPicPr/>
          <p:nvPr/>
        </p:nvPicPr>
        <p:blipFill>
          <a:blip r:embed="rId3"/>
          <a:stretch/>
        </p:blipFill>
        <p:spPr>
          <a:xfrm>
            <a:off x="892080" y="2924280"/>
            <a:ext cx="480960" cy="3492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2" descr=""/>
          <p:cNvPicPr/>
          <p:nvPr/>
        </p:nvPicPr>
        <p:blipFill>
          <a:blip r:embed="rId4"/>
          <a:stretch/>
        </p:blipFill>
        <p:spPr>
          <a:xfrm>
            <a:off x="892080" y="355140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4" descr=""/>
          <p:cNvPicPr/>
          <p:nvPr/>
        </p:nvPicPr>
        <p:blipFill>
          <a:blip r:embed="rId5"/>
          <a:stretch/>
        </p:blipFill>
        <p:spPr>
          <a:xfrm>
            <a:off x="820800" y="4032360"/>
            <a:ext cx="480960" cy="34740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5" descr=""/>
          <p:cNvPicPr/>
          <p:nvPr/>
        </p:nvPicPr>
        <p:blipFill>
          <a:blip r:embed="rId6"/>
          <a:stretch/>
        </p:blipFill>
        <p:spPr>
          <a:xfrm>
            <a:off x="820800" y="4560840"/>
            <a:ext cx="4809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139680" y="969840"/>
            <a:ext cx="8866080" cy="533268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28675" descr=""/>
          <p:cNvPicPr/>
          <p:nvPr/>
        </p:nvPicPr>
        <p:blipFill>
          <a:blip r:embed="rId2"/>
          <a:stretch/>
        </p:blipFill>
        <p:spPr>
          <a:xfrm>
            <a:off x="907920" y="2584440"/>
            <a:ext cx="1000080" cy="54144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" descr=""/>
          <p:cNvPicPr/>
          <p:nvPr/>
        </p:nvPicPr>
        <p:blipFill>
          <a:blip r:embed="rId3"/>
          <a:stretch/>
        </p:blipFill>
        <p:spPr>
          <a:xfrm>
            <a:off x="2685960" y="2584440"/>
            <a:ext cx="1022400" cy="54144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7" descr=""/>
          <p:cNvPicPr/>
          <p:nvPr/>
        </p:nvPicPr>
        <p:blipFill>
          <a:blip r:embed="rId4"/>
          <a:stretch/>
        </p:blipFill>
        <p:spPr>
          <a:xfrm>
            <a:off x="4487760" y="2584440"/>
            <a:ext cx="911160" cy="54144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8" descr=""/>
          <p:cNvPicPr/>
          <p:nvPr/>
        </p:nvPicPr>
        <p:blipFill>
          <a:blip r:embed="rId5"/>
          <a:stretch/>
        </p:blipFill>
        <p:spPr>
          <a:xfrm>
            <a:off x="6243480" y="2584440"/>
            <a:ext cx="992520" cy="54144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9" descr=""/>
          <p:cNvPicPr/>
          <p:nvPr/>
        </p:nvPicPr>
        <p:blipFill>
          <a:blip r:embed="rId6"/>
          <a:stretch/>
        </p:blipFill>
        <p:spPr>
          <a:xfrm>
            <a:off x="8028000" y="2556000"/>
            <a:ext cx="977760" cy="54108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10" descr=""/>
          <p:cNvPicPr/>
          <p:nvPr/>
        </p:nvPicPr>
        <p:blipFill>
          <a:blip r:embed="rId7"/>
          <a:stretch/>
        </p:blipFill>
        <p:spPr>
          <a:xfrm>
            <a:off x="662040" y="379404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11" descr=""/>
          <p:cNvPicPr/>
          <p:nvPr/>
        </p:nvPicPr>
        <p:blipFill>
          <a:blip r:embed="rId8"/>
          <a:stretch/>
        </p:blipFill>
        <p:spPr>
          <a:xfrm>
            <a:off x="662040" y="436716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2" descr=""/>
          <p:cNvPicPr/>
          <p:nvPr/>
        </p:nvPicPr>
        <p:blipFill>
          <a:blip r:embed="rId9"/>
          <a:stretch/>
        </p:blipFill>
        <p:spPr>
          <a:xfrm>
            <a:off x="662040" y="493236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13" descr=""/>
          <p:cNvPicPr/>
          <p:nvPr/>
        </p:nvPicPr>
        <p:blipFill>
          <a:blip r:embed="rId10"/>
          <a:stretch/>
        </p:blipFill>
        <p:spPr>
          <a:xfrm>
            <a:off x="662040" y="5437080"/>
            <a:ext cx="552240" cy="40032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14" descr=""/>
          <p:cNvPicPr/>
          <p:nvPr/>
        </p:nvPicPr>
        <p:blipFill>
          <a:blip r:embed="rId11"/>
          <a:stretch/>
        </p:blipFill>
        <p:spPr>
          <a:xfrm>
            <a:off x="662040" y="5902200"/>
            <a:ext cx="552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9218" descr=""/>
          <p:cNvPicPr/>
          <p:nvPr/>
        </p:nvPicPr>
        <p:blipFill>
          <a:blip r:embed="rId1"/>
          <a:stretch/>
        </p:blipFill>
        <p:spPr>
          <a:xfrm>
            <a:off x="1116000" y="1200240"/>
            <a:ext cx="7201080" cy="4627440"/>
          </a:xfrm>
          <a:prstGeom prst="rect">
            <a:avLst/>
          </a:prstGeom>
          <a:ln w="0">
            <a:noFill/>
          </a:ln>
        </p:spPr>
      </p:pic>
      <p:sp>
        <p:nvSpPr>
          <p:cNvPr id="1077" name="椭圆 9219"/>
          <p:cNvSpPr/>
          <p:nvPr/>
        </p:nvSpPr>
        <p:spPr>
          <a:xfrm>
            <a:off x="5551560" y="2133720"/>
            <a:ext cx="792000" cy="57600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椭圆 9220"/>
          <p:cNvSpPr/>
          <p:nvPr/>
        </p:nvSpPr>
        <p:spPr>
          <a:xfrm>
            <a:off x="5508720" y="350028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椭圆 9221"/>
          <p:cNvSpPr/>
          <p:nvPr/>
        </p:nvSpPr>
        <p:spPr>
          <a:xfrm>
            <a:off x="6789600" y="4941720"/>
            <a:ext cx="79236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5362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5080" cy="2666880"/>
          </a:xfrm>
          <a:prstGeom prst="rect">
            <a:avLst/>
          </a:prstGeom>
          <a:ln w="0">
            <a:noFill/>
          </a:ln>
        </p:spPr>
      </p:pic>
      <p:sp>
        <p:nvSpPr>
          <p:cNvPr id="1083" name="椭圆 15363"/>
          <p:cNvSpPr/>
          <p:nvPr/>
        </p:nvSpPr>
        <p:spPr>
          <a:xfrm>
            <a:off x="6473880" y="234936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椭圆 15364"/>
          <p:cNvSpPr/>
          <p:nvPr/>
        </p:nvSpPr>
        <p:spPr>
          <a:xfrm>
            <a:off x="5148360" y="3673440"/>
            <a:ext cx="792000" cy="57636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409680" y="1952640"/>
            <a:ext cx="8324640" cy="29527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10" descr=""/>
          <p:cNvPicPr/>
          <p:nvPr/>
        </p:nvPicPr>
        <p:blipFill>
          <a:blip r:embed="rId2"/>
          <a:stretch/>
        </p:blipFill>
        <p:spPr>
          <a:xfrm>
            <a:off x="1047600" y="254304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1" descr=""/>
          <p:cNvPicPr/>
          <p:nvPr/>
        </p:nvPicPr>
        <p:blipFill>
          <a:blip r:embed="rId3"/>
          <a:stretch/>
        </p:blipFill>
        <p:spPr>
          <a:xfrm>
            <a:off x="1047600" y="303228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2" descr=""/>
          <p:cNvPicPr/>
          <p:nvPr/>
        </p:nvPicPr>
        <p:blipFill>
          <a:blip r:embed="rId4"/>
          <a:stretch/>
        </p:blipFill>
        <p:spPr>
          <a:xfrm>
            <a:off x="1047600" y="3537000"/>
            <a:ext cx="486000" cy="35244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3" descr=""/>
          <p:cNvPicPr/>
          <p:nvPr/>
        </p:nvPicPr>
        <p:blipFill>
          <a:blip r:embed="rId5"/>
          <a:stretch/>
        </p:blipFill>
        <p:spPr>
          <a:xfrm>
            <a:off x="1047600" y="4006800"/>
            <a:ext cx="486000" cy="35100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4" descr=""/>
          <p:cNvPicPr/>
          <p:nvPr/>
        </p:nvPicPr>
        <p:blipFill>
          <a:blip r:embed="rId6"/>
          <a:stretch/>
        </p:blipFill>
        <p:spPr>
          <a:xfrm>
            <a:off x="1047600" y="4552920"/>
            <a:ext cx="486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8:5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